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35362-4F3A-4ACB-8CE4-183F2C01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5E8C-770C-4750-9BFC-8CA5D480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72C02-737F-4908-880B-19045BF5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CF8E-CBA9-4B9B-9152-D55B0928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E3D7-51AE-49F5-9199-E5B9DD56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8B45-3BE7-4EC1-8232-37170A40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1D98-BD47-4EAE-BF2B-4A187832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F64-004F-4C99-86ED-43D7A62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B6C3-E3E7-4954-8D65-D5E7B024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7C3C-1C2D-46C7-803F-587D71F6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FD52-3351-4395-AD34-71F9DAD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EB7AD-1D0F-4BF5-92BD-9D6E6A77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5EF2-C2A0-47B4-B4B8-03D1D44C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E042-B8C6-47D4-BEE7-F8EB9944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94FBA-3E4C-499E-B7C9-6426EDEB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6C39-78D8-40BB-B05B-0F639EF4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B163-76EF-4A1A-AF3D-B244EAC4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8BD9-2F8C-4129-BB3C-21823E5D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1BC2E-032C-4548-8137-8A628258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930F2-28F1-4F06-AC7B-B02F1BA1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48BB-E271-4444-96E5-93E13135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1727-90CE-4D5E-AEBA-950AFA38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5575-9C1A-49CF-AD4F-0C4AE8F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97FA-4CEF-4A2B-9FE7-8E01B0E6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FB8-5AC4-4796-856A-0E7BCD8BC5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9B15-D5E8-46A2-8D89-2DC6015411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BUDOWA KOMÓRK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OMÓRK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OŚLINNA I ZWIERZĘC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  <p:sndAc>
      <p:stSnd>
        <p:snd r:embed="rId1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32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82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AKUOLE (wodniczki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roślin zawierają sok komórkowy, w którym przechowywane są np. białka, cuk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k komórkowy zawiera również produkty zbędne i wod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6408720" cy="4494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768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768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4" dur="76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ZY WIESZ ŻE…?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omórki odkrył w osiemnastym wieku angielski uczony Robert Hook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Nasze ciało zbudowane jest z ok. 50 bilionów komóre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ększość komórek jest tak mała, że 500 takich komórek zmieściłoby się na kropce kończącej to zdani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Istnieją organizmy zbudowane tylko z jednej komórki np. bakte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64160" y="2546280"/>
            <a:ext cx="2948040" cy="267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KARINA GAHL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KOMÓRKA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omórka jest podstawową jednostką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udulcową i funkcjonalną organizmu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KOMÓRKA ROŚLINN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6944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KOMÓRKA ZWIERZĘC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126120" cy="4390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RÓWNANIE BUDOWY KOMÓRKI </a:t>
            </a: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OŚLINNEJ I ZWIERZĘCEJ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KOMÓRKA ROŚLIN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Ścia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ło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plaz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oplas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ąd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dnicz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KOMÓRKA ZWIERZĘ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ło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toplaz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ąd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dnicz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98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98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ÓŻNICE W BUDOWIE KOMÓREK:</a:t>
            </a:r>
            <a:br>
              <a:rPr sz="2100"/>
            </a:b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OŚLINNEJ IZWIERZĘCEJ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KOMÓRKA ROŚLIN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Ścia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oplas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KOMÓRKA ZWIERZĘ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k ściany komórkowe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k chloroplas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98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98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98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KOMÓRKA TO OGROMNA FABRYKA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 KTÓREJ KAŻDY SKŁADNIK PEŁNI WAŻNĄ ROLĘ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9720" y="2008080"/>
            <a:ext cx="3309840" cy="40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ŚCIA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daje kształt komó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łni funkcję ochronn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budowana jest z celuloz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BŁONA KOMÓRKOW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st półprzepuszczal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łni funkcj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ochronn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transportow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768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768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768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LOROPLAST                                        JĄDR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wiera chlorof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chłania energię słoneczn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eruje czynnościami życiowymi komór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łni nadrzędną rolę w procesie rozmnaża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429000" cy="419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688000" y="1628640"/>
            <a:ext cx="3060720" cy="35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768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768" fill="hold"/>
                                        <p:tgtEl>
                                          <p:spTgt spid="1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768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YTOPLAZMA                             MITOCHONDRIUM             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ypełnia wnętrze komór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chodzą w niej skomplikowane procesy biochemicz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1640" y="14839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bywa się w nich oddychanie komórk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ktrownia w której jest wytwarzana i przekształcana energ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313440" cy="29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768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" dur="768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1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3" dur="768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10:02Z</dcterms:created>
  <dc:creator>a</dc:creator>
  <dc:description/>
  <dc:language>en-US</dc:language>
  <cp:lastModifiedBy>a</cp:lastModifiedBy>
  <dcterms:modified xsi:type="dcterms:W3CDTF">2002-09-27T11:05:49Z</dcterms:modified>
  <cp:revision>3</cp:revision>
  <dc:subject/>
  <dc:title>PAJĄKI</dc:title>
</cp:coreProperties>
</file>